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FAB-1D34-4313-B1D3-81FB24E8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FF1-6375-4359-886E-ECBDAC5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A99-EC5E-476E-AFDA-D2F74549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4C3-CBAC-49C5-BD01-1BB0143D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6F9-21EC-4E52-B081-7289E1F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299-64CE-4180-9673-FC2E2C0E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C24-056B-4200-A2A7-DB72FD23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6A4-6B07-4607-91B5-411E909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0AD-F353-4DC6-9F17-AD6C8D6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98C-04AC-462B-927B-C4AD080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22F-72BF-4E31-9582-78AA38B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798-42F8-43C2-B645-D186E90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92C-B058-45C8-86AD-BC32F0FF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6/6a/Calculus_Graph-Finding_Maximum_Profit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timization problems we are looking for the largest value or the smallest value that a function can take. Variations of optimization are maxes and m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retailer can sell n units of a product for a revenue of r(n)=8.1n and at a cost of c(n)=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7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8n, with all amounts in thousands. How many units does it sell to maximize its pro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=r(n)-c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Image:Calculus Graph-Finding Maximum Profi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2952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, a slope field is a graphical tool to visualize solutions to differential eq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slope field.png"/>
          <p:cNvPicPr/>
          <p:nvPr/>
        </p:nvPicPr>
        <p:blipFill>
          <a:blip r:embed="rId1"/>
          <a:stretch/>
        </p:blipFill>
        <p:spPr>
          <a:xfrm>
            <a:off x="3048120" y="1569960"/>
            <a:ext cx="3027240" cy="455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71880" cy="1495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57:15Z</dcterms:created>
  <dc:creator>SWSD</dc:creator>
  <dc:description/>
  <dc:language>en-US</dc:language>
  <cp:lastModifiedBy>SWSD</cp:lastModifiedBy>
  <dcterms:modified xsi:type="dcterms:W3CDTF">2008-05-15T16:04:10Z</dcterms:modified>
  <cp:revision>1</cp:revision>
  <dc:subject/>
  <dc:title>Calculus</dc:title>
</cp:coreProperties>
</file>