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689-DA21-4603-968A-1602FEAE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9EA-A812-4627-A973-6BA265DE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BCA-EE3A-442E-A006-45965D5B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8F5-0960-4B47-9E66-AE4FC9D6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0EA-CAAD-42BA-BC04-8EB9289E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9A9-737A-435A-A7B4-CB61924E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BA3-3AD2-43B8-BF71-4124697F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5C0-044B-40E0-98EC-90CADABE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982-D9DE-48F1-884A-1C99A7A3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19E-103B-497E-A5DE-FABEDBF2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D09-E2CC-4E98-8EF9-7AF17CE9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AC6-E3D9-499F-A7B2-ED6E223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FF07-BF16-4504-A6AD-01684A7B0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books/en/6/6a/Calculus_Graph-Finding_Maximum_Profit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c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ptimization problems we are looking for the largest value or the smallest value that a function can take. Variations of optimization are maxes and m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mall retailer can sell n units of a product for a revenue of r(n)=8.1n and at a cost of c(n)=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7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18n, with all amounts in thousands. How many units does it sell to maximize its pro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it=r(n)-c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Image:Calculus Graph-Finding Maximum Profit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2952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op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, a slope field is a graphical tool to visualize solutions to differential eq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slope field.png"/>
          <p:cNvPicPr/>
          <p:nvPr/>
        </p:nvPicPr>
        <p:blipFill>
          <a:blip r:embed="rId1"/>
          <a:stretch/>
        </p:blipFill>
        <p:spPr>
          <a:xfrm>
            <a:off x="3048120" y="1569960"/>
            <a:ext cx="3027240" cy="4556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171880" cy="1495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5:57:15Z</dcterms:created>
  <dc:creator>SWSD</dc:creator>
  <dc:description/>
  <dc:language>en-US</dc:language>
  <cp:lastModifiedBy>SWSD</cp:lastModifiedBy>
  <dcterms:modified xsi:type="dcterms:W3CDTF">2008-05-15T16:04:10Z</dcterms:modified>
  <cp:revision>1</cp:revision>
  <dc:subject/>
  <dc:title>Calculus</dc:title>
</cp:coreProperties>
</file>