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C69B-7713-4B6B-A56C-8FC8B5F4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537-B2B6-4A82-B075-E1A5C7AE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21D-3607-4ED2-9DFD-06020C51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D4A-B74F-4644-B158-A9C74E54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450-B3C2-4E1F-97E4-5BB147BC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DFA-6851-4862-B96A-665204C9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464-BC7D-46CB-B237-DCEDDB07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449-BD4B-4A23-BB79-516E3D8A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D44-F316-4E7F-9EEB-CB3F1C75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753-877A-46AC-8C55-1D14A846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864-0448-42B4-B4E8-C9882A13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8E2-BE1C-46C0-B370-3E80E594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6E8B-EFC1-4257-A206-7679DAA72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books/en/6/6a/Calculus_Graph-Finding_Maximum_Profit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c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ptimization problems we are looking for the largest value or the smallest value that a function can take. Variations of optimization are maxes and mi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mall retailer can sell n units of a product for a revenue of r(n)=8.1n and at a cost of c(n)=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7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18n, with all amounts in thousands. How many units does it sell to maximize its pro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it=r(n)-c(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Image:Calculus Graph-Finding Maximum Profit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2952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op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thematics, a slope field is a graphical tool to visualize solutions to differential eq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slope field.png"/>
          <p:cNvPicPr/>
          <p:nvPr/>
        </p:nvPicPr>
        <p:blipFill>
          <a:blip r:embed="rId1"/>
          <a:stretch/>
        </p:blipFill>
        <p:spPr>
          <a:xfrm>
            <a:off x="3048120" y="1569960"/>
            <a:ext cx="3027240" cy="4556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2171880" cy="14954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5:57:15Z</dcterms:created>
  <dc:creator>SWSD</dc:creator>
  <dc:description/>
  <dc:language>en-US</dc:language>
  <cp:lastModifiedBy>SWSD</cp:lastModifiedBy>
  <dcterms:modified xsi:type="dcterms:W3CDTF">2008-05-15T16:04:10Z</dcterms:modified>
  <cp:revision>1</cp:revision>
  <dc:subject/>
  <dc:title>Calculus</dc:title>
</cp:coreProperties>
</file>