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26A-31BC-490E-860E-55BABC26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5DF-864C-41B9-B5F9-8C9059D8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A735-94DB-46CE-8DB0-820703EF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387B-7D46-4D9F-A3F3-2EF759EE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28F9-E5F9-4FD4-8085-1B8F7BA4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BFC4-0B61-4B87-A69D-17A9C0ED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AD28-5E76-46AC-82F8-2CF0D5E2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3D44-C3DD-413B-A3C8-5D962B4A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9FD-BB2E-4D3D-9166-C2461005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0C3-3F77-4067-B5C7-DEF0FA34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8012-2E66-4DB3-99B1-6352ADD6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D6D2-BDD8-418B-8D8E-D0068F89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B138-CA9F-4802-869B-AE00D9551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books/en/6/6a/Calculus_Graph-Finding_Maximum_Profit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cu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ptimization problems we are looking for the largest value or the smallest value that a function can take. Variations of optimization are maxes and mi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mall retailer can sell n units of a product for a revenue of r(n)=8.1n and at a cost of c(n)=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7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18n, with all amounts in thousands. How many units does it sell to maximize its prof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it=r(n)-c(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Image:Calculus Graph-Finding Maximum Profit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2952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op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thematics, a slope field is a graphical tool to visualize solutions to differential eq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slope field.png"/>
          <p:cNvPicPr/>
          <p:nvPr/>
        </p:nvPicPr>
        <p:blipFill>
          <a:blip r:embed="rId1"/>
          <a:stretch/>
        </p:blipFill>
        <p:spPr>
          <a:xfrm>
            <a:off x="3048120" y="1569960"/>
            <a:ext cx="3027240" cy="4556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2"/>
          <a:stretch/>
        </p:blipFill>
        <p:spPr>
          <a:xfrm>
            <a:off x="3352680" y="228600"/>
            <a:ext cx="2171880" cy="14954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1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5:57:15Z</dcterms:created>
  <dc:creator>SWSD</dc:creator>
  <dc:description/>
  <dc:language>en-US</dc:language>
  <cp:lastModifiedBy>SWSD</cp:lastModifiedBy>
  <dcterms:modified xsi:type="dcterms:W3CDTF">2008-05-15T16:04:10Z</dcterms:modified>
  <cp:revision>1</cp:revision>
  <dc:subject/>
  <dc:title>Calculus</dc:title>
</cp:coreProperties>
</file>